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32E6-97A6-4B45-915B-ED8EC684A7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CB77-F0D3-46DC-BDF6-3313466E1E0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20D5-6F80-4620-A309-BD6CFE0EF18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AAD6-035C-40E0-8331-CCC2DAAEAD8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6209-4FED-4217-98AF-C4AB6E62F0B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7326-7473-4F3E-BF77-7D205A57034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4CDD-3610-44E6-8709-279996A9193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C2EC-7FF1-4B1C-B360-5361418A86D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E738-8453-4A6A-AD80-7A342D7BABF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7C7B-61C9-40DC-8252-805A1A0A48D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0B2F-1ECC-420B-AEAB-0F8FDAC1F5A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4B9-A331-4E0D-8427-0726D922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714-07C7-417C-A2C6-16E8DEC0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3AE-6A9A-433F-9223-5D07792D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E33-EB5D-43A2-8E32-6CE6B4B7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B2B-D33A-45E0-AF86-B6FEA6B6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036-3D7B-493B-B8EC-8E703132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4A4-0823-4E71-BC39-5CCD412B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7AD-F01F-4777-9C0E-B1AB13FF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A93-CFC6-4DF5-926E-405F5213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9FB-AA54-4EB4-957D-8F7E8A66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F04-6F8C-4246-B410-BE4318FB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044-18B5-4FD8-B58A-D125D4D5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1548-F32B-49C8-BAE5-841A77F16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800"/>
            </a:br>
            <a:r>
              <a:rPr b="1" i="1" lang="ru-RU" sz="4800" spc="-1" strike="noStrike">
                <a:solidFill>
                  <a:srgbClr val="002060"/>
                </a:solidFill>
                <a:latin typeface="Monotype Corsiva"/>
              </a:rPr>
              <a:t>«Самооценка детей дошкольного возраста и её компоненты»</a:t>
            </a:r>
            <a:br>
              <a:rPr sz="4800"/>
            </a:br>
            <a:br>
              <a:rPr sz="48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    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                                          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Крыгина Анна Александровна</a:t>
            </a:r>
            <a:br>
              <a:rPr sz="2000"/>
            </a:b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                          Старший воспитатель МДОАУ «Детский сад № 2»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Users\User\Desktop\през\img0.jpg"/>
          <p:cNvPicPr/>
          <p:nvPr/>
        </p:nvPicPr>
        <p:blipFill>
          <a:blip r:embed="rId1"/>
          <a:stretch/>
        </p:blipFill>
        <p:spPr>
          <a:xfrm>
            <a:off x="3041640" y="2706840"/>
            <a:ext cx="332280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476360" y="493560"/>
            <a:ext cx="7056360" cy="9367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1280" y="6699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Завышенная самооц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55640" y="2133720"/>
            <a:ext cx="8209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ловек ставит перед собой слишком высокие цели, он неминуемо сталкивается с неуспеха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еудач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370160" y="376200"/>
            <a:ext cx="7056360" cy="9684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35280" y="5684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Заниженная самооц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042920" y="2205000"/>
            <a:ext cx="7850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ловек ставит перед собой слишком легкие для   себя,   только    достижимые  цели  и  т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амым мешает собственному развит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47640" y="100080"/>
            <a:ext cx="6910560" cy="12510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433520" y="187200"/>
            <a:ext cx="70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обенности детей с адекватной самооцен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rcRect l="55785" t="19150" r="0" b="0"/>
          <a:stretch/>
        </p:blipFill>
        <p:spPr>
          <a:xfrm>
            <a:off x="6372360" y="2629080"/>
            <a:ext cx="2771640" cy="4235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370720" cy="5383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1673280" y="96840"/>
            <a:ext cx="6551640" cy="12240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979640" y="9684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обенности детей с завышенной самооцен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rcRect l="59049" t="17342" r="0" b="0"/>
          <a:stretch/>
        </p:blipFill>
        <p:spPr>
          <a:xfrm>
            <a:off x="6372360" y="3068640"/>
            <a:ext cx="2774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755640" y="155088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не склонны анализировать результаты своих действий и поступк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большинстве случаев они пытаются решать любые, в том числе и весьма сложные задачи быстро, не разобрав до конц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аще всего они не осознают своих неудач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стремятся всегда быть на виду, афишируют свои знания и умения, стараются выделиться на фоне других ребят, обратить на них вним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1258920" y="171360"/>
            <a:ext cx="6913440" cy="9540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185920" y="10944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обенности детей с заниженной самооцен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rcRect l="59999" t="18891" r="2414" b="12844"/>
          <a:stretch/>
        </p:blipFill>
        <p:spPr>
          <a:xfrm>
            <a:off x="6265800" y="2894040"/>
            <a:ext cx="2967120" cy="40449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547560" y="1211400"/>
            <a:ext cx="8388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поведении чаще всего не решительны, малообщительны, недоверчивы к другим людям, молчаливы, скованны в своих движени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очень чувствительны, готовы расплакаться в любой момент, не стремятся к сотрудничеству и не способны постоять за себ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заранее отказываются от решения задач,  которые кажутся им сложными, но при эмоциональной поддержке взрослого легко справляются  с ни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 долго не приступает к выполнению задания, опасаясь, что не понял, что надо делать и выполнит все неправи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684360" y="189000"/>
            <a:ext cx="8177040" cy="10396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684360" y="152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витие самооценки детей в зависимости от особенностей воспит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Объект 3"/>
          <p:cNvGraphicFramePr/>
          <p:nvPr/>
        </p:nvGraphicFramePr>
        <p:xfrm>
          <a:off x="684360" y="1228680"/>
          <a:ext cx="8280360" cy="57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28680"/>
                    <a:ext cx="8280360" cy="57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1182600" y="152280"/>
            <a:ext cx="7272360" cy="10083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830240" y="8244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Стратегии позитивного оценивая  реб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468360" y="1341360"/>
            <a:ext cx="845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ложительная оценка ребенка как личности, демонстрация доброжелательного к нему отношения («Я знаю, ты очень старался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казания на ошибки, допущенные при выполнении задания, или нарушения норм поведения («Но сейчас ты поступил неправильно, ты толкнул Машу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нализ причин допущенных ошибок и плохого поведения («Тебе показалось, что Маша толкнула тебя специально, но она это сделала не нарочно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бсуждение вместе с ребенком способов исправления ошибок и допустимых в данной ситуации форм пове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ыражение уверенности в том, что у него все получится («он не будет больше толкать девочек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340000" y="525600"/>
            <a:ext cx="4824360" cy="7221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3024360" y="5256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ервый принц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Блок-схема: решение 6"/>
          <p:cNvSpPr/>
          <p:nvPr/>
        </p:nvSpPr>
        <p:spPr>
          <a:xfrm>
            <a:off x="971640" y="1628640"/>
            <a:ext cx="7777080" cy="38880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232000" y="309564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Говорить нужно о ситуации, а не о личност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195640" y="343080"/>
            <a:ext cx="4968720" cy="7603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059280" y="431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торой принц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Блок-схема: решение 5"/>
          <p:cNvSpPr/>
          <p:nvPr/>
        </p:nvSpPr>
        <p:spPr>
          <a:xfrm>
            <a:off x="539640" y="1413000"/>
            <a:ext cx="8604360" cy="46800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2197080" y="2637000"/>
            <a:ext cx="52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Для того, чтобы выразить свои чувства и не унизить достоинство ребенка, используйте Я-сообщения. Они не унизят достоинство ребен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979640" y="473040"/>
            <a:ext cx="5616720" cy="7635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3132000" y="5619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Третий принц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Блок-схема: решение 4"/>
          <p:cNvSpPr/>
          <p:nvPr/>
        </p:nvSpPr>
        <p:spPr>
          <a:xfrm>
            <a:off x="1224000" y="1628640"/>
            <a:ext cx="7488360" cy="41767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519280" y="324000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валить следует поступки, а не характер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35344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i="1" lang="ru-RU" sz="4800" spc="-1" strike="noStrike">
                <a:solidFill>
                  <a:srgbClr val="000066"/>
                </a:solidFill>
                <a:latin typeface="Times New Roman"/>
              </a:rPr>
              <a:t>«Большая ошибка – мечтать о себе больше, чем следует, и ценить себя ниже, чем стоишь…»</a:t>
            </a:r>
            <a:br>
              <a:rPr sz="1200"/>
            </a:br>
            <a:r>
              <a:rPr b="0" i="1" lang="ru-RU" sz="2800" spc="-1" strike="noStrike">
                <a:solidFill>
                  <a:srgbClr val="333399"/>
                </a:solidFill>
                <a:latin typeface="Times New Roman"/>
              </a:rPr>
              <a:t>                                     </a:t>
            </a: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Иоганн Вольфганг Гёте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90480" y="333360"/>
            <a:ext cx="82342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«Если ты потерял деньги – ты ничего не потерял; если ты потерял честь – получи славу, и ты найдешь честь; если ты потерял уверенность в себе – ты потерял вс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700440" y="5854680"/>
            <a:ext cx="5432400" cy="95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1258920" y="2492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Monotype Corsiva"/>
              </a:rPr>
              <a:t>Спасибо за 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0000" y="476280"/>
            <a:ext cx="8389800" cy="19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Что такое самооценка?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Users\User\Desktop\през\img2.jpg"/>
          <p:cNvPicPr/>
          <p:nvPr/>
        </p:nvPicPr>
        <p:blipFill>
          <a:blip r:embed="rId1"/>
          <a:stretch/>
        </p:blipFill>
        <p:spPr>
          <a:xfrm>
            <a:off x="2266920" y="2773440"/>
            <a:ext cx="4840200" cy="3273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1"/>
          <p:cNvSpPr/>
          <p:nvPr/>
        </p:nvSpPr>
        <p:spPr>
          <a:xfrm>
            <a:off x="611280" y="260280"/>
            <a:ext cx="8366040" cy="187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55640" y="35712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Vijaya"/>
              </a:rPr>
              <a:t>Самооценка – это оценка личностью самой себя, своих возможностей, качеств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Vijaya"/>
              </a:rPr>
              <a:t>           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Vijaya"/>
              </a:rPr>
              <a:t>места среди других лю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755640" y="2770200"/>
            <a:ext cx="2952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000080" y="301140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ритич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кругленный прямоугольник 12"/>
          <p:cNvSpPr/>
          <p:nvPr/>
        </p:nvSpPr>
        <p:spPr>
          <a:xfrm>
            <a:off x="5651640" y="2668680"/>
            <a:ext cx="33559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398920" y="289548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заимоотношения с окружающи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Выгнутая вправо стрелка 5127"/>
          <p:cNvSpPr/>
          <p:nvPr/>
        </p:nvSpPr>
        <p:spPr>
          <a:xfrm>
            <a:off x="3708360" y="2133720"/>
            <a:ext cx="863640" cy="1584360"/>
          </a:xfrm>
          <a:custGeom>
            <a:avLst/>
            <a:gdLst>
              <a:gd name="textAreaLeft" fmla="*/ 115560 w 863640"/>
              <a:gd name="textAreaRight" fmla="*/ 748080 w 863640"/>
              <a:gd name="textAreaTop" fmla="*/ 315000 h 1584360"/>
              <a:gd name="textAreaBottom" fmla="*/ 11613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93" stAng="-5400000" swAng="5400000"/>
                <a:lnTo>
                  <a:pt x="21600" y="11536"/>
                </a:lnTo>
                <a:arcTo wR="21600" hR="8593" stAng="0" swAng="3420827"/>
                <a:lnTo>
                  <a:pt x="5400" y="21327"/>
                </a:lnTo>
                <a:lnTo>
                  <a:pt x="0" y="18657"/>
                </a:lnTo>
                <a:lnTo>
                  <a:pt x="5400" y="15440"/>
                </a:lnTo>
                <a:lnTo>
                  <a:pt x="5400" y="16912"/>
                </a:lnTo>
                <a:arcTo wR="21600" hR="8593" stAng="3420827" swAng="-3183497"/>
                <a:lnTo>
                  <a:pt x="21281" y="10064"/>
                </a:lnTo>
                <a:arcTo wR="21600" hR="8593" stAng="-237330" swAng="-5162670"/>
                <a:close/>
              </a:path>
              <a:path fill="darkenLess" w="21600" h="21600">
                <a:moveTo>
                  <a:pt x="0" y="0"/>
                </a:moveTo>
                <a:arcTo wR="21600" hR="8593" stAng="-5400000" swAng="5400000"/>
                <a:lnTo>
                  <a:pt x="21600" y="11536"/>
                </a:lnTo>
                <a:arcTo wR="21600" hR="8593" stAng="0" swAng="-237330"/>
                <a:lnTo>
                  <a:pt x="21281" y="10064"/>
                </a:lnTo>
                <a:arcTo wR="21600" hR="8593" stAng="-237330" swAng="-5162670"/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Выгнутая влево стрелка 5128"/>
          <p:cNvSpPr/>
          <p:nvPr/>
        </p:nvSpPr>
        <p:spPr>
          <a:xfrm>
            <a:off x="4794120" y="2133720"/>
            <a:ext cx="857520" cy="1584360"/>
          </a:xfrm>
          <a:custGeom>
            <a:avLst/>
            <a:gdLst>
              <a:gd name="textAreaLeft" fmla="*/ 114840 w 857520"/>
              <a:gd name="textAreaRight" fmla="*/ 742680 w 857520"/>
              <a:gd name="textAreaTop" fmla="*/ 315720 h 1584360"/>
              <a:gd name="textAreaBottom" fmla="*/ 11617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09" stAng="-5400000" swAng="-5400000"/>
                <a:lnTo>
                  <a:pt x="0" y="11531"/>
                </a:lnTo>
                <a:arcTo wR="21600" hR="8609" stAng="10800000" swAng="-3423747"/>
                <a:lnTo>
                  <a:pt x="16200" y="21327"/>
                </a:lnTo>
                <a:lnTo>
                  <a:pt x="21600" y="18678"/>
                </a:lnTo>
                <a:lnTo>
                  <a:pt x="16200" y="15483"/>
                </a:lnTo>
                <a:lnTo>
                  <a:pt x="16200" y="16944"/>
                </a:lnTo>
                <a:arcTo wR="21600" hR="8609" stAng="7376253" swAng="3188168"/>
                <a:lnTo>
                  <a:pt x="313" y="10069"/>
                </a:lnTo>
                <a:arcTo wR="21600" hR="8609" stAng="-10564421" swAng="5164421"/>
                <a:close/>
              </a:path>
              <a:path fill="darkenLess" w="21600" h="21600">
                <a:moveTo>
                  <a:pt x="21600" y="0"/>
                </a:moveTo>
                <a:arcTo wR="21600" hR="8609" stAng="-5400000" swAng="-5400000"/>
                <a:lnTo>
                  <a:pt x="0" y="8609"/>
                </a:lnTo>
                <a:arcTo wR="21600" hR="8609" stAng="10800000" swAng="-235579"/>
                <a:lnTo>
                  <a:pt x="313" y="10069"/>
                </a:lnTo>
                <a:arcTo wR="21600" hR="8609" stAng="-10564421" swAng="5164421"/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Выгнутая вправо стрелка 5129"/>
          <p:cNvSpPr/>
          <p:nvPr/>
        </p:nvSpPr>
        <p:spPr>
          <a:xfrm>
            <a:off x="3708360" y="2098800"/>
            <a:ext cx="1079640" cy="324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708840 h 3240000"/>
              <a:gd name="textAreaBottom" fmla="*/ 239652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51" stAng="-5400000" swAng="5400000"/>
                <a:lnTo>
                  <a:pt x="21600" y="11251"/>
                </a:lnTo>
                <a:arcTo wR="21600" hR="9451" stAng="0" swAng="3567213"/>
                <a:lnTo>
                  <a:pt x="5400" y="21300"/>
                </a:lnTo>
                <a:lnTo>
                  <a:pt x="0" y="19801"/>
                </a:lnTo>
                <a:lnTo>
                  <a:pt x="5400" y="17702"/>
                </a:lnTo>
                <a:lnTo>
                  <a:pt x="5400" y="18601"/>
                </a:lnTo>
                <a:arcTo wR="21600" hR="9451" stAng="3567213" swAng="-3423403"/>
                <a:lnTo>
                  <a:pt x="21502" y="10351"/>
                </a:lnTo>
                <a:arcTo wR="21600" hR="9451" stAng="-143809" swAng="-5256191"/>
                <a:close/>
              </a:path>
              <a:path fill="darkenLess" w="21600" h="21600">
                <a:moveTo>
                  <a:pt x="0" y="0"/>
                </a:moveTo>
                <a:arcTo wR="21600" hR="9451" stAng="-5400000" swAng="5400000"/>
                <a:lnTo>
                  <a:pt x="21600" y="11251"/>
                </a:lnTo>
                <a:arcTo wR="21600" hR="9451" stAng="0" swAng="-143809"/>
                <a:lnTo>
                  <a:pt x="21502" y="10351"/>
                </a:lnTo>
                <a:arcTo wR="21600" hR="9451" stAng="-143809" swAng="-5256191"/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Выгнутая влево стрелка 5130"/>
          <p:cNvSpPr/>
          <p:nvPr/>
        </p:nvSpPr>
        <p:spPr>
          <a:xfrm>
            <a:off x="4521240" y="2098800"/>
            <a:ext cx="1079640" cy="324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708840 h 3240000"/>
              <a:gd name="textAreaBottom" fmla="*/ 239652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51" stAng="-5400000" swAng="-5400000"/>
                <a:lnTo>
                  <a:pt x="0" y="11251"/>
                </a:lnTo>
                <a:arcTo wR="21600" hR="9451" stAng="10800000" swAng="-3567213"/>
                <a:lnTo>
                  <a:pt x="16200" y="21300"/>
                </a:lnTo>
                <a:lnTo>
                  <a:pt x="21600" y="19801"/>
                </a:lnTo>
                <a:lnTo>
                  <a:pt x="16200" y="17702"/>
                </a:lnTo>
                <a:lnTo>
                  <a:pt x="16200" y="18601"/>
                </a:lnTo>
                <a:arcTo wR="21600" hR="9451" stAng="7232787" swAng="3423403"/>
                <a:lnTo>
                  <a:pt x="98" y="10351"/>
                </a:lnTo>
                <a:arcTo wR="21600" hR="9451" stAng="-10656191" swAng="5256191"/>
                <a:close/>
              </a:path>
              <a:path fill="darkenLess" w="21600" h="21600">
                <a:moveTo>
                  <a:pt x="21600" y="0"/>
                </a:moveTo>
                <a:arcTo wR="21600" hR="9451" stAng="-5400000" swAng="-5400000"/>
                <a:lnTo>
                  <a:pt x="0" y="9451"/>
                </a:lnTo>
                <a:arcTo wR="21600" hR="9451" stAng="10800000" swAng="-143809"/>
                <a:lnTo>
                  <a:pt x="98" y="10351"/>
                </a:lnTo>
                <a:arcTo wR="21600" hR="9451" stAng="-10656191" swAng="5256191"/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6" descr=""/>
          <p:cNvPicPr/>
          <p:nvPr/>
        </p:nvPicPr>
        <p:blipFill>
          <a:blip r:embed="rId1"/>
          <a:stretch/>
        </p:blipFill>
        <p:spPr>
          <a:xfrm>
            <a:off x="730080" y="4478400"/>
            <a:ext cx="3048120" cy="1182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660240" y="4602240"/>
            <a:ext cx="32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ребовательность к се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5597640" y="4602240"/>
            <a:ext cx="3492360" cy="1182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5583240" y="4551480"/>
            <a:ext cx="35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тношение к успехам и не удач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731880" y="260280"/>
            <a:ext cx="8209080" cy="12970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835280" y="61452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Условия развития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ятиугольник 4"/>
          <p:cNvSpPr/>
          <p:nvPr/>
        </p:nvSpPr>
        <p:spPr>
          <a:xfrm rot="5400000">
            <a:off x="422640" y="2203920"/>
            <a:ext cx="4608720" cy="388944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485" y="0"/>
                </a:lnTo>
                <a:lnTo>
                  <a:pt x="21600" y="10800"/>
                </a:lnTo>
                <a:lnTo>
                  <a:pt x="124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08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ятиугольник 6"/>
          <p:cNvSpPr/>
          <p:nvPr/>
        </p:nvSpPr>
        <p:spPr>
          <a:xfrm rot="5400000">
            <a:off x="4787280" y="2276280"/>
            <a:ext cx="4608720" cy="374508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3745080"/>
              <a:gd name="textAreaBottom" fmla="*/ 374544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824" y="0"/>
                </a:lnTo>
                <a:lnTo>
                  <a:pt x="21600" y="10800"/>
                </a:lnTo>
                <a:lnTo>
                  <a:pt x="128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08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879480" y="2205000"/>
            <a:ext cx="35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щение с окружающи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11280" y="3384720"/>
            <a:ext cx="362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ваиваются формы, виды и критерии оце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291280" y="2227320"/>
            <a:ext cx="380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бственная деятельность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4859280" y="3384720"/>
            <a:ext cx="42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робация, наполнение личностными смысл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730080" y="171360"/>
            <a:ext cx="8256600" cy="11019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427040" y="4302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Этапы развития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774720" y="1351080"/>
            <a:ext cx="2448000" cy="10224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774720" y="2352600"/>
            <a:ext cx="2473200" cy="43768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3473280" y="1363680"/>
            <a:ext cx="2592720" cy="107784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3486240" y="2340000"/>
            <a:ext cx="2579760" cy="44020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701640" y="127332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Младший дошкольный возрас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774720" y="2463840"/>
            <a:ext cx="223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3,5 лет у детей уже можно наблюдать массовые реакции на успех и неудачу, очевидным образом связанные с самооце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3479760" y="1273320"/>
            <a:ext cx="260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редний дошкольный возрас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3241800" y="2432160"/>
            <a:ext cx="2847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многих детей складывается умение и потребность правильно оценивать себя, свои успехи, неудачи, личностные  качества, причем не только в игровой, но и в других видах деятельности: учении, труде и общ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2"/>
          <p:cNvSpPr/>
          <p:nvPr/>
        </p:nvSpPr>
        <p:spPr>
          <a:xfrm>
            <a:off x="6300720" y="1392120"/>
            <a:ext cx="2685960" cy="97164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6346800" y="131436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Старший дошкольный возрас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6300720" y="2363760"/>
            <a:ext cx="2685960" cy="43783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6300720" y="2352600"/>
            <a:ext cx="284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придают большое значение оценкам, даваемым им взрослыми людьм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не ждет такой оценки, а активно сам добивается ее, стремится  получить похвалу, очень старается ее заслуж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042920" y="333360"/>
            <a:ext cx="7274160" cy="8319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138400" y="4572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омпоненты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826920" y="1773360"/>
            <a:ext cx="79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огнитивный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(представление о себе, знания о себе, сравнения с другими и анализ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826920" y="3281400"/>
            <a:ext cx="79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моциональный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отношение к себе, которое формируется из отношений взрослых к ребенку, удовлетворение его положением в семье и среди сверстников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71640" y="260280"/>
            <a:ext cx="7561080" cy="9367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547640" y="4176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Виды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самооце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85880" y="17002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декватная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нормальная), соответствует реальному представлению о себ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785880" y="2997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Завышенная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из-за надуманной переоценке себ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785880" y="429264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Заниженная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(из-за кажущейся переоценки себя и своих возможносте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547640" y="372960"/>
            <a:ext cx="6553440" cy="79704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987560" y="4795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Адекватная самооц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35200" y="1628640"/>
            <a:ext cx="79214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ответствует реальной успешности человека в какой-либо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ысокий уровень самоуважения, общей самооцен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ловек, обладающий чувством собственного достоинства, уверенный в себ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4T06:35:35Z</dcterms:created>
  <dc:creator>Admin</dc:creator>
  <dc:description/>
  <dc:language>en-US</dc:language>
  <cp:lastModifiedBy>User</cp:lastModifiedBy>
  <dcterms:modified xsi:type="dcterms:W3CDTF">2019-02-27T05:02:47Z</dcterms:modified>
  <cp:revision>99</cp:revision>
  <dc:subject/>
  <dc:title>Your Title Here…</dc:title>
</cp:coreProperties>
</file>